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47B-38F5-4522-BCE5-DA73362A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617-0A07-4BD7-8B36-9F6CB53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E64-C747-408E-AFA3-84E783E7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D18-E587-418D-89AA-BFD52894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A5D-E4B4-42BB-863E-22CDD0C1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4FC-3898-4EFF-A7E1-961AA123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349-6FB8-4BFD-A7D9-5801311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DB50-63BA-4502-93D4-7EF3C938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58A5-99F6-416E-AE81-8FC0ECB1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A34-8120-41D8-A178-C93F80D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0D3D-8E7F-4E45-B8C8-BD31A204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499-FDA3-45D0-87F6-4B251AC2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E08F-5F06-4F93-B74B-D2C8B10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F880-7BAB-44A9-8B8F-09755B1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3D53-AB2A-4BF8-992D-4700C035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7930-6C7C-4D20-B04D-270CB367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3C49-D5A0-4F73-87A5-142080E5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402-1BD5-41C7-9083-6197906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F5E-818E-46A6-AC6B-D0B45F3B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DEC-7AD7-459B-8EB3-E8965D8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D75-8F48-4653-88F7-B4FE219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39C-2E3C-4B77-ADB0-333A081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C6E-1355-4314-B35B-88127B9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6C-DD42-4B2E-B1CE-FADF882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F64-C843-4783-A296-4E8A3CCFA34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682120" y="4952880"/>
          <a:ext cx="4604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2120" y="4952880"/>
                    <a:ext cx="460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998-7D4B-46D7-A520-F09806F8E99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6912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Comic Sans MS"/>
              </a:rPr>
              <a:t>Clarity about Learning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480440" y="0"/>
          <a:ext cx="1657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0440" y="0"/>
                    <a:ext cx="1657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Where do you start?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Learning Intentions may be derived from: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Linking to the National Curriculu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Other curriculum resourc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Assessment that has identified a learning need (e.g., asTTl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Reflective discussions between teachers and students that indicate the next learning step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Remember to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Establish Relevance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ell the students why they are learning this at all, or….…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cuss with them when they think they will use/need this learning, or...…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hare with them how it fits into the bigger pictur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457200"/>
            <a:ext cx="8713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Follow the Learning Intention with an opportunity to create the </a:t>
            </a:r>
            <a:r>
              <a:rPr b="1" i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Success Cri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13000" y="2400480"/>
            <a:ext cx="73404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ow will we know when we have met the Learning Intention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ow will we show that we understand what it is we are Learning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 will be the evidence that we’ve learnt thi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 steps would lead us to achieving the learning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157720"/>
            <a:ext cx="7921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 ‘</a:t>
            </a: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Product’ and ‘Process’ Criteria: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oduct: 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it is about the finished product that shows you’ve been successfu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steps I could take to make sure the finished product is successfu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pending on the learning, one may be more useful than the other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2636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Why have Success Criteria?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 the teacher and the students are clear about what it is they are going to be judged or evaluated on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 the students have something definitive to refer back to when they want to check if they are on track or no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 as to guide teacher and students in self, peer and student evaluatio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Co-construction of Success Criteria with Stud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Discuss with students what success criteria are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ay begin by just giving students the success cri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Explicitly model for students how to construct success cri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Invite students to contribute to the success cri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Timing / process will vary depending on the learning contex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Model the Process or Examine an Exempla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An opportunity to see what we’re learning about and what it might look like – extra guidance for student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odelling or examples can be used to co-construct the success criteria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tronger involvement by student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tudents are making connection between the learning and the task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Much more challenging than being given the success criteria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Examples / Modell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78000" y="2465280"/>
            <a:ext cx="73404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National Exemplars of writing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Journals/books/etc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eacher-written examp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eacher modelling of a proces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Global and Specific Learning Intentions: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Global:  Learning how to persuade others in our writing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pecific:  Learning to write the opening paragraph of an argument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re specific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earning how to get the reader involved and interested in my argument from the start, or…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earning how to back up a point with convincing evidence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Learning intentions, success criteria and task need to be separated but aligned.</a:t>
            </a:r>
            <a:endParaRPr b="0" lang="en-US" sz="32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earning Intentio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s what you want the students to learn or understand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ccess Criteri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answers the question “How will we know we have achieved this?”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instructions for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ctivities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nd Tasks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escribe the activities the students will carry out in order to lear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0666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essment For Learning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chway of Teaching Capabilities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341360"/>
            <a:ext cx="7467480" cy="9479160"/>
          </a:xfrm>
          <a:prstGeom prst="blockArc">
            <a:avLst>
              <a:gd name="adj1" fmla="val 10453754"/>
              <a:gd name="adj2" fmla="val 346246"/>
              <a:gd name="adj3" fmla="val 25875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557360"/>
            <a:ext cx="18288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larity about what is to be lear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Learning Inten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success criteri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relev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exempla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modell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57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781360"/>
            <a:ext cx="16002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curriculum understand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Pervasive qualit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Quality Manage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852640"/>
            <a:ext cx="1904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romoting Further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arn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Learning Conversa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Feedback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Feed-forwar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581360"/>
            <a:ext cx="17524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ctive Refle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About learn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student engage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sense of partnership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72428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hared Clarity about next learning step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437000"/>
            <a:ext cx="1943280" cy="576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1989000"/>
            <a:ext cx="1297080" cy="1800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03640" y="1916280"/>
            <a:ext cx="1224000" cy="18730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12000" y="4076280"/>
            <a:ext cx="187308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724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Effective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4005360"/>
            <a:ext cx="2666880" cy="1981080"/>
          </a:xfrm>
          <a:prstGeom prst="donut">
            <a:avLst>
              <a:gd name="adj" fmla="val 14879"/>
            </a:avLst>
          </a:prstGeom>
          <a:solidFill>
            <a:srgbClr val="0000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677440" y="4952880"/>
          <a:ext cx="4600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77440" y="4952880"/>
                    <a:ext cx="460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55640" y="638172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6165720"/>
            <a:ext cx="7488000" cy="646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uilding Learning-Focused Relationship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The archway is standing on a firm foundation of trusted and supportive relationship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6165720"/>
            <a:ext cx="180036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NZ" sz="4400" spc="-1" strike="noStrike">
                <a:solidFill>
                  <a:srgbClr val="ff9900"/>
                </a:solidFill>
                <a:latin typeface="Tahoma"/>
              </a:rPr>
              <a:t>Alignment: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LI:  Learn how to describe an event in detail (so the reader gets a better picture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C: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 have written about: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at I could se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What I could hea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What I was feeling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Task:  Re-write your introduction with more detail (or try a different event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Check that students understand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Give frequent opportunities for students to check their understanding with you or one another</a:t>
            </a: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Give students time to think before responding to a question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Model for the students how they might think and share with other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9900"/>
                </a:solidFill>
                <a:latin typeface="Tahoma"/>
              </a:rPr>
              <a:t>Display L.I and S.C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These need to be visually displayed so you and students can refer back to the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ome ideas to save your time &amp; the school’s money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ave LIs and SCs on the compute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record LIs and SCs once on a laminated card that can be shifted from the whiteboard to a display area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Create a flip-chart or A3 Booklet so students can refer back to the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Recapping...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...the beginning steps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55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Clarify Learning Intentions at planning stag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Create a climate where students expect a Learning Inten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Explain the LI in student-speak and display i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Discuss the reason for learning thi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Model the process or examine an exempla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Invite students to say how we will know this has been learnt and write the Success Criter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Introduce the task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Check the students understan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Get the students to refer back to the LIs and SCs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ow the principles of ‘Clarity’ and ‘Partnership’ could be put into action</a:t>
            </a:r>
            <a:endParaRPr b="0" lang="en-US" sz="32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llow the video and observe the elements of that are pres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Shared clarity about what is to be learn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earning Intentio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ccess crite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levanc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dell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549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Learning Inten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3141720"/>
            <a:ext cx="67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first ‘active’ element of formative assessment in the classroom is the sharing of Learning Intentions.”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- Shirley Clarke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290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278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Be clear in your own mind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200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it is that you want the students to learn or underst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ite it down in ‘teacher-speak’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500280"/>
            <a:ext cx="820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Translate into student - spea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77724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ake your ‘teacher - speak’ Learning Intention and put it into language that your students can understand clearl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 make a list of all the words for ‘said’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rite a learning intention that captures the learning behind this activity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 create text that clearly conveys the sense of a character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word this as a learning intention that students could more easily understand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 write a recount about school camp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write this as a learning intention that is ‘context-free’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earning to use capital letters and full stop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write this so it captures the ‘deeper’ ideas inherent in the learning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2:29:17Z</dcterms:created>
  <dc:creator> Michael Absolum</dc:creator>
  <dc:description/>
  <dc:language>en-US</dc:language>
  <cp:lastModifiedBy>Apple Education</cp:lastModifiedBy>
  <cp:lastPrinted>2005-01-26T03:57:04Z</cp:lastPrinted>
  <dcterms:modified xsi:type="dcterms:W3CDTF">2007-06-06T04:52:37Z</dcterms:modified>
  <cp:revision>89</cp:revision>
  <dc:subject/>
  <dc:title>No Slide Title</dc:title>
</cp:coreProperties>
</file>